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FE3-4CFF-4BE9-B915-E382F0E7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B8BE-64CB-4AE7-AF94-5910F40D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AD2-A6A9-418A-9D16-AB3B7D49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7AB-30A7-4D8D-AF42-383CCE2D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A6CD-64A4-4E4F-8C63-1B64B8BC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807C-E353-45FC-9461-E5B4CC7D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287A-14DB-4F3D-B058-D34D8B86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3C96-50DD-4072-A604-DC1807CF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14B0-FBA9-4F8F-975D-E899ADD4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ED22-D1E9-4037-B513-7739E75C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7AD3-0EBE-449E-AA03-A35A35CB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171-D2F5-4B4C-8312-4F58A4C1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EBE6-7898-4DD5-A740-D254DC87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64E9-194E-43D4-B826-8E4FEA8B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7BDA-8BA7-45A9-AEDD-CDAC294C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F851-D8FC-45E9-8A62-27CB534B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58B5-7EE4-4C5C-89FD-2EF0047C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0A1-4EDE-4705-A4D6-3308E3CF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039-578B-460D-928F-551B4CA4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019-40B0-4C7C-B3C8-9628042E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FE5-17C2-481D-82D9-E48164BC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98D-F09E-487F-826D-E805943E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56D9-BFFD-4B54-9EAD-18E676C2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A78-8EC3-4C4A-8BCF-C3968C60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3E53-871C-49CC-AE76-72B4D5E51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A9E8-7EEC-4E4C-9773-43955AAC4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Earth’s Resources: Soil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0" y="1523520"/>
            <a:ext cx="4572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orizons are the underlying ro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orizon is weathered and broken rock 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goli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ach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nerals may be found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orizon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edro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almost solid crustal material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yers = HORIZ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Picture 6" descr="soillayers"/>
          <p:cNvPicPr/>
          <p:nvPr/>
        </p:nvPicPr>
        <p:blipFill>
          <a:blip r:embed="rId1"/>
          <a:stretch/>
        </p:blipFill>
        <p:spPr>
          <a:xfrm>
            <a:off x="457200" y="1523880"/>
            <a:ext cx="32209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yers = Horiz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il in different locations may or may not have all of these horiz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instance, in a construction zone, all of the topsoil may have been remov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soil may have eroded through wind or water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earthquake or storm damage may have disrupted the existing la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s of Soil Profi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5" descr="Photograph of a profile of the Nashville soil series."/>
          <p:cNvPicPr/>
          <p:nvPr/>
        </p:nvPicPr>
        <p:blipFill>
          <a:blip r:embed="rId1"/>
          <a:stretch/>
        </p:blipFill>
        <p:spPr>
          <a:xfrm>
            <a:off x="533520" y="12952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Photograph of a profile of the Arawak soil series."/>
          <p:cNvPicPr/>
          <p:nvPr/>
        </p:nvPicPr>
        <p:blipFill>
          <a:blip r:embed="rId2"/>
          <a:stretch/>
        </p:blipFill>
        <p:spPr>
          <a:xfrm>
            <a:off x="5410080" y="1371600"/>
            <a:ext cx="2743200" cy="4114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5181480" y="56386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mestone soil in the USVI (organic limesto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457200" y="5562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amy sand from Kan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ther components of soi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 – after rains or floods, water infiltrates the soil, carrying the nutrients to plant roots and into lower horiz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 – soil is composed of approximately 25% air, aided by the movement of worms and insects in the topsoil la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% living things – plant roots, worms, microorganisms make up part of the s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ypes of Soi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il is classified according to the type of mineral 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o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4876920" cy="12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andy Soi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y soil has large particles which don’t fit together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 (and dissolved nutrients) seep right through and are not usable by plants’ r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ype of soil dries ou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les feel grai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Profile photograph of an Alfisol"/>
          <p:cNvPicPr/>
          <p:nvPr/>
        </p:nvPicPr>
        <p:blipFill>
          <a:blip r:embed="rId1"/>
          <a:stretch/>
        </p:blipFill>
        <p:spPr>
          <a:xfrm>
            <a:off x="5638680" y="380880"/>
            <a:ext cx="3098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ilty Soi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599840"/>
            <a:ext cx="5715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les are smaller than s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les are very light, they erode easily with both wind and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water, this is what we think of as m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les feel like fl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sty texture when d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943600" y="35812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181480" cy="11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ay-type soi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aye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il has very small particles, and gums together. It holds water and nutrients well, but plants find it hard to root in clay so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it holds water well, it takes a long time for water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me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clay so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ef, heavy rains may not reach plant roo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les feel slipp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5" descr="Profile photograph of an Ultisol"/>
          <p:cNvPicPr/>
          <p:nvPr/>
        </p:nvPicPr>
        <p:blipFill>
          <a:blip r:embed="rId1"/>
          <a:stretch/>
        </p:blipFill>
        <p:spPr>
          <a:xfrm>
            <a:off x="5562720" y="457200"/>
            <a:ext cx="32954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18148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oamy Soi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fect mix of particle size and texture to hold water and nutrient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40% s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% si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% c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Profile photograph of an Histosols"/>
          <p:cNvPicPr/>
          <p:nvPr/>
        </p:nvPicPr>
        <p:blipFill>
          <a:blip r:embed="rId1"/>
          <a:stretch/>
        </p:blipFill>
        <p:spPr>
          <a:xfrm>
            <a:off x="5715000" y="533520"/>
            <a:ext cx="3060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ypes of soi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deal type of soil for plant (crop) growth is partway between the three typ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oam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oil has neither too small nor too large particles (It’s just right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le to drain, but also hold nutr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oam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oil has a good percentage of decayed plant material 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um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ich provide the nutrients that plants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soil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utermost layer of the earth’s cr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e up of both organic (from living things) and inorganic materi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divided into layers according to the ratio of organic to inorganic material at various dep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classified according to what kind of material you can find in a s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urther Resources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Resources Conservation Service website. Try out the Web Soil Survey tool to see what’s under your f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Environmental Protection A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ging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to So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yers of the soi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yers vary as to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oser to the top, the more organic material you’ll f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 animals (insects as well as larger critt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ly, at the bottom, you will hit BEDROCK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8" descr="0055"/>
          <p:cNvPicPr/>
          <p:nvPr/>
        </p:nvPicPr>
        <p:blipFill>
          <a:blip r:embed="rId1"/>
          <a:stretch/>
        </p:blipFill>
        <p:spPr>
          <a:xfrm>
            <a:off x="457200" y="1676520"/>
            <a:ext cx="36576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yers = HORIZ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19360" y="152388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opmost layer, 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orizon, includes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t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or detritus from formerly living thing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orizon is the most valuable – It is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psoi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ere plants get most of their nutrients. The decaying organic matter in this layer is called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m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5" descr="soillayers"/>
          <p:cNvPicPr/>
          <p:nvPr/>
        </p:nvPicPr>
        <p:blipFill>
          <a:blip r:embed="rId1"/>
          <a:stretch/>
        </p:blipFill>
        <p:spPr>
          <a:xfrm>
            <a:off x="533520" y="1600200"/>
            <a:ext cx="3565440" cy="47242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2514600" y="2590920"/>
            <a:ext cx="1066680" cy="30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1616"/>
                </a:solidFill>
                <a:latin typeface="Times New Roman"/>
              </a:rPr>
              <a:t>(litt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Humu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living things (both dead plants and dead animals) decompose, their molecular components become available for new plants to take up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utri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decayed material is call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um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mus is mostly insoluble, so it remains in these upper layers of s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very dark, nearly black in col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man creat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um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call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OPSOI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tons of topsoil spread over an acre would only be as thick as a dim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takes over 500 years for organic material to collect and decompose naturally to form only ONE INCH of topsoi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to 10 tons of animal life can exist in an acre of topsoi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0" y="1523520"/>
            <a:ext cx="41148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orizon is where the nutrients from the organic material (humus) begin to dissol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epest of plants’ roots sometimes extend this f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yers = HORIZ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soillayers"/>
          <p:cNvPicPr/>
          <p:nvPr/>
        </p:nvPicPr>
        <p:blipFill>
          <a:blip r:embed="rId1"/>
          <a:stretch/>
        </p:blipFill>
        <p:spPr>
          <a:xfrm>
            <a:off x="457200" y="1523880"/>
            <a:ext cx="3451320" cy="4572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2362320" y="2514600"/>
            <a:ext cx="1066680" cy="30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1616"/>
                </a:solidFill>
                <a:latin typeface="Times New Roman"/>
              </a:rPr>
              <a:t>(litt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each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rain or other sorts of precipitation, water moves into the soil. This is call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filtr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it moves from the topsoil layer into the subsoils and deeper, it dissolves inorganic minerals from the upper layers. This is call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ac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erals and other substances may be carried into groundwater supplies and thus into drinking water in this mann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0" y="1523520"/>
            <a:ext cx="41148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oriz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ayer contains a smaller amount of organic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a heavy concetration of the minerals leached from the above lay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yers = HORIZ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soillayers"/>
          <p:cNvPicPr/>
          <p:nvPr/>
        </p:nvPicPr>
        <p:blipFill>
          <a:blip r:embed="rId1"/>
          <a:stretch/>
        </p:blipFill>
        <p:spPr>
          <a:xfrm>
            <a:off x="457200" y="1523880"/>
            <a:ext cx="345132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"/>
          <p:cNvSpPr/>
          <p:nvPr/>
        </p:nvSpPr>
        <p:spPr>
          <a:xfrm>
            <a:off x="2362320" y="2514600"/>
            <a:ext cx="1066680" cy="30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1616"/>
                </a:solidFill>
                <a:latin typeface="Times New Roman"/>
              </a:rPr>
              <a:t>(litt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11:06:15Z</dcterms:created>
  <dc:creator>Jenkintown School District</dc:creator>
  <dc:description/>
  <dc:language>en-US</dc:language>
  <cp:lastModifiedBy> </cp:lastModifiedBy>
  <dcterms:modified xsi:type="dcterms:W3CDTF">2011-02-16T14:08:52Z</dcterms:modified>
  <cp:revision>6</cp:revision>
  <dc:subject/>
  <dc:title>Earth’s Resources: Soil</dc:title>
</cp:coreProperties>
</file>